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575-3FCE-4A50-85B9-14A6F50C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4EB-7A50-436F-9F2C-44CA48A5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AAA-89C6-4978-A962-C8962B23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F29-15BA-41CA-9FA4-12520530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C49-7947-4F31-8DE4-E84BA8E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F6E-4E55-4D9C-AE03-75C7D85C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25F-2857-4167-BEF9-8C35F4E2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7E5-7662-4F0C-BA77-C47F3823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99C-E826-437D-ADC8-1D91250A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031-0AC2-4576-97A6-17A0094B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240-A02F-4E85-9DEA-8059A6F3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5EC-A712-4946-9957-3D2C2A8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6ECF-6150-4C2F-A15D-BAC2134F5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505320"/>
            <a:ext cx="4343400" cy="33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0"/>
            <a:ext cx="4800600" cy="3505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05320"/>
            <a:ext cx="480060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1752480"/>
            <a:ext cx="2971800" cy="2743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6095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133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3434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nipu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19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g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334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800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809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3657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2590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685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286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37339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1523880"/>
            <a:ext cx="144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ence Respon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685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ethean/ Smart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3276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2209680" y="3276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924360" y="47624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3924360" y="11048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172200"/>
            <a:ext cx="2361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0"/>
            <a:ext cx="2590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19520"/>
            <a:ext cx="1981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28195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knowledge    an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knowledge   an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52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685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6:51:45Z</dcterms:created>
  <dc:creator>jacie.maslyk</dc:creator>
  <dc:description/>
  <dc:language>en-US</dc:language>
  <cp:lastModifiedBy>jacie.maslyk</cp:lastModifiedBy>
  <dcterms:modified xsi:type="dcterms:W3CDTF">2011-07-25T17:35:48Z</dcterms:modified>
  <cp:revision>6</cp:revision>
  <dc:subject/>
  <dc:title>Slide 1</dc:title>
</cp:coreProperties>
</file>